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A373-A0D2-413F-853B-0219E3952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65D3-F112-424A-95BD-954105EC6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8BB1-23B5-42AA-99E6-87B54FF13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carbs_lipids_proteins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bealbio.wikispaces.com/Period+3+ch+5+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 = alpha-glucose + alpha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= alpha-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ose = galactose + beta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9B0A-6B52-45EC-B325-ADACF37C6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block12012.wikispaces.com/The+three+Classes+totally+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 &amp; sucrose have alpha-link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ose has a beta-link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15A0-6AAB-4AE3-B0F9-3D7B8DFDA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CAD1-90F3-462D-90FF-3EEBADE61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merthehammer.com/2010/12/04/understanding-ingredient-labels-todays-tip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7666-9840-4CFF-B6F6-EB0DFF1A9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ola bars health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yeatingnaturally.wordpress.com/2009/02/11/the-truth-about-granola-ba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7D49-8698-48DC-9DCF-1C1D459CD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yeatingnaturally.wordpress.com/2009/02/11/the-truth-about-granola-ba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46C6-C291-4DFC-9EF7-9235D34D3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3098-8AEF-4F9B-A48F-98ADA4FE7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C388-0B1F-4F8A-A609-0502E167B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iology.reachingfordreams.com/biomolecules/carbohydrate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tarch is a chain of alpha-glucose, which we can digest.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ellulose is a chain of beta-glucose, which we cannot digest.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1FE2-B8AF-44BE-93A9-3602D3B56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eadyhealth.com/articles/Low_carb_diet_fact_sheet_a48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C577-0FB4-48C9-BFBE-1E0F1046B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3D95-47B0-44C2-87CE-F20073EB0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4347-4FE8-4878-9AA9-5252358FC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lifetime-fitness.ca/pages/meet-our-trainers/trainer-tips--nutritiona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AC74-6E0B-43D6-83F0-86E54ADA7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bioprop/glucos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9EA5-6A35-4676-81BC-EF61B7195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ikispaces.psu.edu/pages/viewpage.action?pageId=112527211&amp;navigatingVersions=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A39F-DF89-45F1-850F-900B019A6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david-bender.co.uk/metabonline/CHO/GI/GI13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C80C-BEDC-4A79-B522-2D20F14BF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.nicerweb.com/Locked/media/ch05/disaccharid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EB09-5D74-4081-9090-F68477D54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ansfield.osu.edu/~sabedon/biol1020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, maltose (malt sugar used in making beer), lactose (in milk)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DEF3-1D85-4C76-9555-B445DE5D7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.nicerweb.com/Locked/media/ch05/sucros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9BB-8B68-4539-931D-0AC1D728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3D8-A504-46D5-B88A-2090FBF7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65C-6D64-46AE-8BEE-FF5A46FA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11C-5344-4621-B415-8ABFACD2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1E1-309C-4A10-B8E3-258FFD94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63D-A790-4B7A-BD93-62588FD7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48F-07B1-4796-B387-6C2D16DC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A3F-05F3-4D84-89D1-ABC80E92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D8A-E5A9-4B9F-8CE2-FAF1C4E2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B88-884F-4048-9AB9-76E19554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212-E28A-4CC5-A9C9-9B51AE92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2EA-A908-4A5F-9030-3D41CF2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854D-7289-45F3-BBB4-0C79CAB49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yDnnD3fMaU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lysis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ydrolysis_reaction"/>
          <p:cNvPicPr/>
          <p:nvPr/>
        </p:nvPicPr>
        <p:blipFill>
          <a:blip r:embed="rId1"/>
          <a:stretch/>
        </p:blipFill>
        <p:spPr>
          <a:xfrm>
            <a:off x="2354400" y="1981080"/>
            <a:ext cx="443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of Di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3" descr="disaccharides.JPG"/>
          <p:cNvPicPr/>
          <p:nvPr/>
        </p:nvPicPr>
        <p:blipFill>
          <a:blip r:embed="rId1"/>
          <a:srcRect l="-9641" t="0" r="-9641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cosidic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3" descr="lactose.gif"/>
          <p:cNvPicPr/>
          <p:nvPr/>
        </p:nvPicPr>
        <p:blipFill>
          <a:blip r:embed="rId1"/>
          <a:srcRect l="-6614" t="0" r="-661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ga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gm_fiberone-1-293x300"/>
          <p:cNvPicPr/>
          <p:nvPr/>
        </p:nvPicPr>
        <p:blipFill>
          <a:blip r:embed="rId1"/>
          <a:stretch/>
        </p:blipFill>
        <p:spPr>
          <a:xfrm>
            <a:off x="2562120" y="1981080"/>
            <a:ext cx="401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naturevalley"/>
          <p:cNvPicPr/>
          <p:nvPr/>
        </p:nvPicPr>
        <p:blipFill>
          <a:blip r:embed="rId1"/>
          <a:stretch/>
        </p:blipFill>
        <p:spPr>
          <a:xfrm>
            <a:off x="1724040" y="609480"/>
            <a:ext cx="56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lif1"/>
          <p:cNvPicPr/>
          <p:nvPr/>
        </p:nvPicPr>
        <p:blipFill>
          <a:blip r:embed="rId1"/>
          <a:stretch/>
        </p:blipFill>
        <p:spPr>
          <a:xfrm>
            <a:off x="752400" y="609480"/>
            <a:ext cx="7637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if bars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lif2"/>
          <p:cNvPicPr/>
          <p:nvPr/>
        </p:nvPicPr>
        <p:blipFill>
          <a:blip r:embed="rId1"/>
          <a:stretch/>
        </p:blipFill>
        <p:spPr>
          <a:xfrm>
            <a:off x="685800" y="2838600"/>
            <a:ext cx="77724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ig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horter-chain sugars with 3-10 single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r chain carbohydrates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 starch, cellulose, glycogen, 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2" descr="Starch_Glycogen_Cellulose_Chitin.gif"/>
          <p:cNvPicPr/>
          <p:nvPr/>
        </p:nvPicPr>
        <p:blipFill>
          <a:blip r:embed="rId1"/>
          <a:srcRect l="-8369" t="0" r="-8369" b="0"/>
          <a:stretch/>
        </p:blipFill>
        <p:spPr>
          <a:xfrm>
            <a:off x="611280" y="692280"/>
            <a:ext cx="7846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-Carb Di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ocarb"/>
          <p:cNvPicPr/>
          <p:nvPr/>
        </p:nvPicPr>
        <p:blipFill>
          <a:blip r:embed="rId1"/>
          <a:stretch/>
        </p:blipFill>
        <p:spPr>
          <a:xfrm>
            <a:off x="2557440" y="1981080"/>
            <a:ext cx="402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large molecules that are often composed of repeating sub-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biologically important macromolecul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-Carb Di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of popular low-carb-di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foods are you allowed/not allowed to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benefits of the di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possible risks of the di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 are the most important energy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cannot synthesize carbohydrates;  they must be consumed in plant mater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arbohydrate-food-shot--350"/>
          <p:cNvPicPr/>
          <p:nvPr/>
        </p:nvPicPr>
        <p:blipFill>
          <a:blip r:embed="rId1"/>
          <a:stretch/>
        </p:blipFill>
        <p:spPr>
          <a:xfrm>
            <a:off x="4648320" y="2652840"/>
            <a:ext cx="3809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ugars in straight chain or r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H:O usually in 1:2:1 ratio (glucose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 fructose, galactose, ribose, deoxyrib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inring"/>
          <p:cNvPicPr/>
          <p:nvPr/>
        </p:nvPicPr>
        <p:blipFill>
          <a:blip r:embed="rId1"/>
          <a:stretch/>
        </p:blipFill>
        <p:spPr>
          <a:xfrm>
            <a:off x="4648320" y="2062080"/>
            <a:ext cx="3809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cose Is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mage-3"/>
          <p:cNvPicPr/>
          <p:nvPr/>
        </p:nvPicPr>
        <p:blipFill>
          <a:blip r:embed="rId1"/>
          <a:stretch/>
        </p:blipFill>
        <p:spPr>
          <a:xfrm>
            <a:off x="1279440" y="1981080"/>
            <a:ext cx="658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saccharide Is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7" descr="monosacchs.png"/>
          <p:cNvPicPr/>
          <p:nvPr/>
        </p:nvPicPr>
        <p:blipFill>
          <a:blip r:embed="rId1"/>
          <a:srcRect l="0" t="-3121" r="0" b="-312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from 2 single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 sucrose, maltose, la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05_disaccharides"/>
          <p:cNvPicPr/>
          <p:nvPr/>
        </p:nvPicPr>
        <p:blipFill>
          <a:blip r:embed="rId1"/>
          <a:stretch/>
        </p:blipFill>
        <p:spPr>
          <a:xfrm>
            <a:off x="4495680" y="2009880"/>
            <a:ext cx="41911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ccharides are formed by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hydration synthesis (condensa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yDnnD3fM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68dhsyn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05_05Sucrose"/>
          <p:cNvPicPr/>
          <p:nvPr/>
        </p:nvPicPr>
        <p:blipFill>
          <a:blip r:embed="rId1"/>
          <a:stretch/>
        </p:blipFill>
        <p:spPr>
          <a:xfrm>
            <a:off x="685800" y="3189240"/>
            <a:ext cx="77724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7-02-10T11:39:33Z</dcterms:modified>
  <cp:revision>164</cp:revision>
  <dc:subject/>
  <dc:title>Organic Chemistry</dc:title>
</cp:coreProperties>
</file>